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07282-AACC-4CD2-9C9F-1F74AAB9F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215EC-F759-4A04-ACAA-969617A89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EF3C5-1540-4E6B-A2A3-B95613DB4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C7EDD-C9AF-4415-AC5E-45730B23E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BC160-107F-4BE9-AD0A-217CAD841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42931-712B-42B7-9632-E2A39CB20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9EFDE-CF4C-43A7-8FF7-D8F2C5543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D7270-B400-4180-B77B-5FFC6610A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07E42-C409-4E02-855C-A8976991A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47440-1EBD-44C2-AAF2-D1DD114AE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62359-5FBE-439D-A661-289E71E6F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C0D27-BB8B-4631-9EF9-B1D294E06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E4CAB-EFCC-46B2-9BA1-3A93EFAB47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senate.gov/" TargetMode="External"/><Relationship Id="rId2" Type="http://schemas.openxmlformats.org/officeDocument/2006/relationships/hyperlink" Target="http://gov.state.ak.us/" TargetMode="External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algore.com/" TargetMode="External"/><Relationship Id="rId2" Type="http://schemas.openxmlformats.org/officeDocument/2006/relationships/hyperlink" Target="http://www.senate.gov/" TargetMode="External"/><Relationship Id="rId3" Type="http://schemas.openxmlformats.org/officeDocument/2006/relationships/hyperlink" Target="http://www.algore.com/" TargetMode="External"/><Relationship Id="rId4" Type="http://schemas.openxmlformats.org/officeDocument/2006/relationships/hyperlink" Target="http://biden.senate.gov/" TargetMode="External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hyperlink" Target="http://www.johnmccain.com/" TargetMode="External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Famous People Frida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33412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r. Mundorf’s Cla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ctober 3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52280" y="1676160"/>
            <a:ext cx="87631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Why is John McCain famous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itle 4"/>
          <p:cNvSpPr/>
          <p:nvPr/>
        </p:nvSpPr>
        <p:spPr>
          <a:xfrm>
            <a:off x="533520" y="38088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Re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itle 4"/>
          <p:cNvSpPr/>
          <p:nvPr/>
        </p:nvSpPr>
        <p:spPr>
          <a:xfrm>
            <a:off x="228600" y="3276720"/>
            <a:ext cx="876312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Why is Barack Obama famou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day’s Famous Peo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2514240" y="2590560"/>
            <a:ext cx="3886200" cy="1600200"/>
          </a:xfrm>
          <a:prstGeom prst="rect">
            <a:avLst/>
          </a:prstGeom>
          <a:solidFill>
            <a:srgbClr val="ccecff">
              <a:alpha val="52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John McCai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Barack Obam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t just anyone can be President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have to be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____ in the ______ ______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d be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t least 35 years ol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can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only be President for _____ year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that's two four-year terms.) Franklin Delano _________ was the only person to be President for more than two terms. He was elected four time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President can be a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man or a woman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ny ____ or any ________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1619280" y="3962520"/>
          <a:ext cx="5238720" cy="1736640"/>
        </p:xfrm>
        <a:graphic>
          <a:graphicData uri="http://schemas.openxmlformats.org/drawingml/2006/table">
            <a:tbl>
              <a:tblPr/>
              <a:tblGrid>
                <a:gridCol w="2619360"/>
                <a:gridCol w="2619360"/>
              </a:tblGrid>
              <a:tr h="1739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sidential Candidate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ohn McCain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urtesy of </a:t>
                      </a:r>
                      <a:br>
                        <a:rPr sz="1800"/>
                      </a:br>
                      <a:r>
                        <a:rPr b="1" lang="en-US" sz="18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1"/>
                        </a:rPr>
                        <a:t>http://www.senate.gov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ce Presidential Candidate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rah Palin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urtesy of </a:t>
                      </a:r>
                      <a:br>
                        <a:rPr sz="1800"/>
                      </a:br>
                      <a:r>
                        <a:rPr b="1" lang="en-US" sz="18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2"/>
                        </a:rPr>
                        <a:t>http://gov.state.ak.us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48" name="Picture 5" descr="http://www.pocanticohills.org/election/John_McCain.jpg"/>
          <p:cNvPicPr/>
          <p:nvPr/>
        </p:nvPicPr>
        <p:blipFill>
          <a:blip r:embed="rId3"/>
          <a:stretch/>
        </p:blipFill>
        <p:spPr>
          <a:xfrm>
            <a:off x="1981080" y="1676520"/>
            <a:ext cx="1905120" cy="24098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http://www.pocanticohills.org/election/Palin.jpg"/>
          <p:cNvPicPr/>
          <p:nvPr/>
        </p:nvPicPr>
        <p:blipFill>
          <a:blip r:embed="rId4"/>
          <a:stretch/>
        </p:blipFill>
        <p:spPr>
          <a:xfrm>
            <a:off x="4648320" y="1628640"/>
            <a:ext cx="1923840" cy="24098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_____________ Party Presidential and Vice Presidential Candid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____________ Party Presidential and Vice Presidential Candid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952640" y="3825720"/>
          <a:ext cx="5238720" cy="1737000"/>
        </p:xfrm>
        <a:graphic>
          <a:graphicData uri="http://schemas.openxmlformats.org/drawingml/2006/table">
            <a:tbl>
              <a:tblPr/>
              <a:tblGrid>
                <a:gridCol w="2619360"/>
                <a:gridCol w="2619360"/>
              </a:tblGrid>
              <a:tr h="1739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sidential Candidate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rack Obama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urtesy of </a:t>
                      </a:r>
                      <a:r>
                        <a:rPr b="0" lang="en-US" sz="18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1"/>
                        </a:rPr>
                        <a:t>_x000b_</a:t>
                      </a:r>
                      <a:r>
                        <a:rPr b="0" lang="en-US" sz="18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2"/>
                        </a:rPr>
                        <a:t>http://www.senate.gov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ce Presidential Candidate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oe Biden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urtesy of </a:t>
                      </a:r>
                      <a:r>
                        <a:rPr b="0" lang="en-US" sz="18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3"/>
                        </a:rPr>
                        <a:t>_x000b_</a:t>
                      </a:r>
                      <a:r>
                        <a:rPr b="0" lang="en-US" sz="18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4"/>
                        </a:rPr>
                        <a:t>http://biden.senate.go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53" name="Picture 1" descr="http://www.pocanticohills.org/election/ObamaBarack.jpg"/>
          <p:cNvPicPr/>
          <p:nvPr/>
        </p:nvPicPr>
        <p:blipFill>
          <a:blip r:embed="rId5"/>
          <a:stretch/>
        </p:blipFill>
        <p:spPr>
          <a:xfrm>
            <a:off x="2409840" y="1704960"/>
            <a:ext cx="1781280" cy="24098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http://www.pocanticohills.org/election/biden.jpg"/>
          <p:cNvPicPr/>
          <p:nvPr/>
        </p:nvPicPr>
        <p:blipFill>
          <a:blip r:embed="rId6"/>
          <a:stretch/>
        </p:blipFill>
        <p:spPr>
          <a:xfrm>
            <a:off x="4981680" y="1628640"/>
            <a:ext cx="1724040" cy="24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240" y="438120"/>
            <a:ext cx="297180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John McCain</a:t>
            </a:r>
            <a:br>
              <a:rPr sz="4400"/>
            </a:b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www.johnmccain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574800" y="272880"/>
            <a:ext cx="5187960" cy="605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orn August 29, 1936 in __________ Canal Zo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tended the United States ________ Academ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eld captive as a P.O.W. in __________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 ______ he became the Navy’s liaison to the ______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lected to House of ______________ in _______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lected to the U.S. _________ in _______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rried with _______ childr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6" descr="http://www.webinfrance.com/wp-content/uploads/2008/03/john-mccain.jpg"/>
          <p:cNvPicPr/>
          <p:nvPr/>
        </p:nvPicPr>
        <p:blipFill>
          <a:blip r:embed="rId1"/>
          <a:stretch/>
        </p:blipFill>
        <p:spPr>
          <a:xfrm>
            <a:off x="266760" y="1733400"/>
            <a:ext cx="2857320" cy="42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40932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574800" y="27252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8" descr="John McCain"/>
          <p:cNvPicPr/>
          <p:nvPr/>
        </p:nvPicPr>
        <p:blipFill>
          <a:blip r:embed="rId1"/>
          <a:stretch/>
        </p:blipFill>
        <p:spPr>
          <a:xfrm>
            <a:off x="304920" y="1143000"/>
            <a:ext cx="3979800" cy="23623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0" descr="John McCain"/>
          <p:cNvPicPr/>
          <p:nvPr/>
        </p:nvPicPr>
        <p:blipFill>
          <a:blip r:embed="rId2"/>
          <a:stretch/>
        </p:blipFill>
        <p:spPr>
          <a:xfrm>
            <a:off x="304920" y="3733920"/>
            <a:ext cx="3979800" cy="24382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2" descr="John McCain"/>
          <p:cNvPicPr/>
          <p:nvPr/>
        </p:nvPicPr>
        <p:blipFill>
          <a:blip r:embed="rId3"/>
          <a:stretch/>
        </p:blipFill>
        <p:spPr>
          <a:xfrm>
            <a:off x="4724280" y="1066680"/>
            <a:ext cx="4064040" cy="5105520"/>
          </a:xfrm>
          <a:prstGeom prst="rect">
            <a:avLst/>
          </a:prstGeom>
          <a:ln w="0">
            <a:noFill/>
          </a:ln>
        </p:spPr>
      </p:pic>
      <p:sp>
        <p:nvSpPr>
          <p:cNvPr id="63" name="TextBox 9"/>
          <p:cNvSpPr/>
          <p:nvPr/>
        </p:nvSpPr>
        <p:spPr>
          <a:xfrm>
            <a:off x="1600200" y="6248520"/>
            <a:ext cx="52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.johnmccain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14" descr="John McCain 2008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762120" y="85680"/>
            <a:ext cx="7572240" cy="9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67840" y="438120"/>
            <a:ext cx="300852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Barack Obama</a:t>
            </a:r>
            <a:br>
              <a:rPr sz="4400"/>
            </a:b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www.barackobama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3581280" y="304920"/>
            <a:ext cx="5112000" cy="58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orn August 4, 1961 in ___________, __________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tended _________ University and _________ Law School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lected to the __________ State Senate in 199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livered the keynote address at the 2004 ____________ National Conven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on election to the U.S. _____ in 2004 with a landslide ___% of the vo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rried with ____ childr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8" descr="http://www.depauw.edu/photos/PhotoDB_Repository/2007/8/Barack%20Obama%20Capitol.jpg"/>
          <p:cNvPicPr/>
          <p:nvPr/>
        </p:nvPicPr>
        <p:blipFill>
          <a:blip r:embed="rId1"/>
          <a:stretch/>
        </p:blipFill>
        <p:spPr>
          <a:xfrm>
            <a:off x="152280" y="1600200"/>
            <a:ext cx="32911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0932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3574800" y="27252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10" descr="Young Obama"/>
          <p:cNvPicPr/>
          <p:nvPr/>
        </p:nvPicPr>
        <p:blipFill>
          <a:blip r:embed="rId1"/>
          <a:stretch/>
        </p:blipFill>
        <p:spPr>
          <a:xfrm>
            <a:off x="228600" y="76320"/>
            <a:ext cx="3933720" cy="29527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2" descr="http://missionenvironment.com/blog/wp-content/uploads/2008/02/barack-obama1.jpg"/>
          <p:cNvPicPr/>
          <p:nvPr/>
        </p:nvPicPr>
        <p:blipFill>
          <a:blip r:embed="rId2"/>
          <a:stretch/>
        </p:blipFill>
        <p:spPr>
          <a:xfrm>
            <a:off x="5276880" y="76320"/>
            <a:ext cx="3333600" cy="31525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4" descr="http://www.chicagotribune.com/media/photo/2008-06/39590587.jpg"/>
          <p:cNvPicPr/>
          <p:nvPr/>
        </p:nvPicPr>
        <p:blipFill>
          <a:blip r:embed="rId3"/>
          <a:stretch/>
        </p:blipFill>
        <p:spPr>
          <a:xfrm>
            <a:off x="4114800" y="3429000"/>
            <a:ext cx="4762440" cy="30672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8" descr="http://i.realone.com/assets/rn/img/3/3/5/4/19064533-19064535-large.jpg"/>
          <p:cNvPicPr/>
          <p:nvPr/>
        </p:nvPicPr>
        <p:blipFill>
          <a:blip r:embed="rId4"/>
          <a:stretch/>
        </p:blipFill>
        <p:spPr>
          <a:xfrm>
            <a:off x="385920" y="3200400"/>
            <a:ext cx="3119400" cy="2819520"/>
          </a:xfrm>
          <a:prstGeom prst="rect">
            <a:avLst/>
          </a:prstGeom>
          <a:ln w="0">
            <a:noFill/>
          </a:ln>
        </p:spPr>
      </p:pic>
      <p:sp>
        <p:nvSpPr>
          <p:cNvPr id="75" name="TextBox 14"/>
          <p:cNvSpPr/>
          <p:nvPr/>
        </p:nvSpPr>
        <p:spPr>
          <a:xfrm>
            <a:off x="380880" y="6400800"/>
            <a:ext cx="350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.barackobama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1T18:30:37Z</dcterms:created>
  <dc:creator>CCPS</dc:creator>
  <dc:description/>
  <dc:language>en-US</dc:language>
  <cp:lastModifiedBy>CCPS</cp:lastModifiedBy>
  <dcterms:modified xsi:type="dcterms:W3CDTF">2008-09-30T20:15:00Z</dcterms:modified>
  <cp:revision>35</cp:revision>
  <dc:subject/>
  <dc:title>Famous People Friday</dc:title>
</cp:coreProperties>
</file>